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CEF4-2CB1-46CB-84B4-C02EB33EE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ED16-7269-4CBE-B441-0ADD20BEC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6929-510B-47BB-818E-099DC1C85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C6E3-16E6-4D92-84C4-785D3471E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79C4-5EC1-48D5-804C-0F14B6E34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C127-F1C8-4949-8F46-736B58C8C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BF63-9660-449C-92C7-BA08261BA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FFA2-9384-4894-85B1-92EE9A7E3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8953-C4C0-4B08-81E6-991EB447D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D6EA-4001-4E69-B87F-87498773C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8DCB-2368-4080-A1BB-BFF97DBC2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5724-183C-496E-B0BE-22884526F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9332F-5C70-4664-ABCA-E2C82F8237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514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Monitor Finance Actions</a:t>
            </a:r>
            <a:br>
              <a:rPr sz="6600"/>
            </a:b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Viewgraph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073640" y="6437160"/>
            <a:ext cx="13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CB2A1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28720" y="339480"/>
            <a:ext cx="7515360" cy="723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rminal Learning Obj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86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o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itor Finance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access to DA Form 2142, DA Form 2627, DA Form 4187, DA Form 4730, DA Form 5960, DD Form 2494, DD Form 2558, DD Form 2559, AR 27-10, AR 37–104–4, DoD Financial Management Regulation 7000.14–R, Volume 7A and DA Pam 600-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226280" y="6437160"/>
            <a:ext cx="13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CB2A1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8720" y="339480"/>
            <a:ext cx="7515360" cy="723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rminal Learning Obj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8600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s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 Verified that the Soldier meets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ments for special pay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listment and reenlistment bonu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 Verified that the Soldier is entitled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eive special pay for duty subject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stile fire or imminent dang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073640" y="6361200"/>
            <a:ext cx="13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CB2A1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28720" y="339480"/>
            <a:ext cx="7515360" cy="723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rminal Learning Obj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1961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61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 Verified that the Soldier meets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61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ments for special pay for fore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61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proficienc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61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61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 Verified that the Soldier meets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61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ments for incentive pay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61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zardous duti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61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61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378560" y="6284880"/>
            <a:ext cx="13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CB2A1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8720" y="339480"/>
            <a:ext cx="7515360" cy="723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rminal Learning Obj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0000"/>
          </a:bodyPr>
          <a:p>
            <a:pPr marL="182484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s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2484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 Verified that the soldier rece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2484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ances and that any changes 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2484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ed on DA Form 596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2484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2484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  Verified that requested allotm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2484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y met the requir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2484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2484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073640" y="6361200"/>
            <a:ext cx="13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CB2A1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8720" y="339480"/>
            <a:ext cx="7515360" cy="723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rminal Learning Obj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8132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132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.  Verified that the guidelines for nonjudi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132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nishment are me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132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132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  Verified that the eligibility requirements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132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 for the Tricare Dental Plan (TDP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1320" indent="0"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1320" indent="0"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132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02240" y="6361200"/>
            <a:ext cx="13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CB2A1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28720" y="339480"/>
            <a:ext cx="7515360" cy="723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rminal Learning Obj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8132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s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132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.  Verified that all pay transactions 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132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mitted and any questions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132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yment are properly documen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132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02240" y="6284880"/>
            <a:ext cx="13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CB2A1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06T16:59:06Z</dcterms:created>
  <dc:creator>ADG</dc:creator>
  <dc:description/>
  <dc:language>en-US</dc:language>
  <cp:lastModifiedBy>Administrator</cp:lastModifiedBy>
  <cp:lastPrinted>1998-11-19T23:25:15Z</cp:lastPrinted>
  <dcterms:modified xsi:type="dcterms:W3CDTF">2005-07-08T12:09:49Z</dcterms:modified>
  <cp:revision>15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S:\TD\Tdd\ANCOC\75H CTDF\ANNEX B\CCB5H104</vt:lpwstr>
  </property>
  <property fmtid="{D5CDD505-2E9C-101B-9397-08002B2CF9AE}" pid="14" name="ScreenSize">
    <vt:r8>1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